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BAE-15EC-48F7-957B-DEBB0921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7EE-0FE3-4733-98DD-06EA3C00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8D36C-7C4E-4FC5-BE2A-3FD8BA33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BDC1-BD69-4D5F-8F02-48E023E6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9CBC5-5CBF-42FA-A914-BC26A9F7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B2CF-FC31-4778-8FEB-88EDB1D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21B83-6FCA-44DF-8D04-02C51DF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A4A3F-45A4-4DA1-9F7D-7544C90A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34DDF-954F-42B7-9CF5-B5CED942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90C84-77A1-4AE2-A6E9-0B37B6B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36C27-4D86-4DB0-B8A2-685A1575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70495-A7E0-4AE9-ACCE-1E22276D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74-56F9-4DEF-A066-1EA1BCEA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21BD8-90FD-48AB-A9E0-4D27562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832C5-424D-4CB2-9182-E3D61D28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1B83-81DD-4D73-AB54-A6A045E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DAC34-FB07-40DC-A006-67928E6C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8652B-B880-4BCC-B6F7-5389B03A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219EC-95C7-46CE-9B04-D892C51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52D67-AB29-4E8D-B4B2-D38401EF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7478-190D-4AC4-BD45-C332837C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D73BB-9C06-431A-859F-696E1D7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827A9-74F2-444A-B245-58D07D76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684-4EEC-4427-88EC-416D72CA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8F093-92D8-4817-B528-9C210F6D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4FBB-0C7E-43DE-A4A3-7D9F10B7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ED77-FBA8-42CB-8B82-42EA499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84FB3-3CD9-4B6B-8098-5EBC9FE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CA8A2-DD0C-40B8-8C7E-4F55E37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3C257-9441-42D4-B629-44C591CA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4A83-8913-4B3C-83FD-F067DD6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D42D-914C-4FED-A049-A6A2A21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FD55-F1B2-4483-9BED-E48113C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FB587-793D-4346-A990-C96C6A59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E0D9-3F74-4993-B3F0-0D8BC673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7B3B0-80E5-486C-A3C7-BB7958E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5DF94-D280-4C34-B865-6A5409F6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D2F8C-3B12-4772-ACC3-D095BC70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08367-046B-4250-9D8F-82738BD6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99008-15D8-44FF-BA9F-206B3277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AF300-CF78-4C82-B5CA-FD6776F7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AEAE7-0A1E-42A7-967A-99E94E2E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FCDCD-FC84-4ED9-BC19-BD446720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D903C-89DA-438C-B9A1-BE5A9B0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395B5-721E-4384-A452-57451D6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8C9-D5CA-4057-B957-634F635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6513E-B01C-4193-9133-CD2C00D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B4F88-B022-4DB3-818C-A9BFF35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CB688-B4F0-440D-B871-2581659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3CA75-98D7-4248-800D-DC1377D8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506AB-CED3-411C-A957-B5706591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3576E-1716-4D82-B419-CA724A69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8F424-FE6D-4EBB-83FE-64B09641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FB0D2-79AF-4464-A82F-4CA0244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ABB2E-4C2D-4FB9-889B-FA1AEE50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1E1CB-4DA7-4F79-9620-AC04C060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84B6-7067-4773-8BDA-77FA0094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D6F63-04B8-4D38-A53B-3702CD0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DD82B-D190-4F55-8B23-1500BB8B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EC201-5911-44CE-B65B-60054DA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74AD2-C47D-4B47-B404-CD2FBC9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C24E3-7793-4C53-814E-9F56A513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737BD-E234-4EFA-97F7-8E96241F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B676D-CA50-462E-AAEC-BD64B0BD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2A7C5-DD9A-45C6-9EA3-CA6B3582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00FCD-AA96-470D-A5AD-A742C3AE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06EE0-AC37-4171-AF1A-BDEE5266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79E9-06D2-4812-9485-8191F9D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0682EE-0E07-49F8-8DCA-3125F96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B87E7-BCC4-4F80-9A4C-59E8BBB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AE9E5-16B3-49AD-B83A-5F0292FD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3D989-4C1A-4547-BF20-7EAA1AF8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B4454-7CB5-44B8-9A00-78A11BE6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82584-CFF4-4A35-BD24-D38DEF78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9FB43-C77F-42F7-9297-5855B6EA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45435C-B1F1-49F7-B57A-F6AA0C49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8B6BC-B284-4E5A-92F8-41AE6322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A624A-E448-46B2-961B-5A95792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0D94-10E4-4EA5-8E51-BB7DDAE3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21BA2-B048-4E35-8AE6-E9B833B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1823F-F4E0-43AE-A85F-400DFFE7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B0380-55E4-42F3-8E83-2DF7320B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83D3F1-171A-4AF2-8CFA-AB0AD6B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601D9-E969-4FBD-B23F-AC1B897C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85615-7CCC-4577-A2F3-164CD43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C4872-EC62-4E09-A50B-8E77108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871DE-0E62-49B0-AC84-0503F712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9C6FC-4FC0-430D-84AA-CC5065A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96066-ABC8-4C52-9551-5B5B7C83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AD92-508F-44DE-A4E6-ED37D1CE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9A8DC-1383-444D-AD9A-C61DB7F1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31D62-DBF2-492A-9E11-00241D43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B2543-B5DF-4FC3-9D0C-EEA9E7A8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E6C2E-4231-47DD-812A-6D7A629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7E35B-C154-4E6F-95FA-462FEC1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CF858-4F8C-4CB1-A794-E04E7F23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13081-4419-4720-9691-28AC3658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7D8C8-CA25-4799-9588-B496B99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1645A-E8BD-48CF-AA38-7A671E1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CE73D-1D8B-4860-A7BD-7127FDD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7DA2-E16F-4869-925E-EC8C052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C7C031-95D4-4052-864D-F04BCDD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12322-F0D1-4FED-94B6-3395B79C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2CC25-CA89-4418-97BD-793C16D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A7EC4-DBBC-4805-9530-B49FA116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B443DE-2E99-4370-9470-3DC78551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02EB7-4D6F-4DC1-873C-B7357C2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178C6-007D-487D-99C3-032BE140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B79B0-43AE-4329-A9A2-AD5AD53E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20F65-FF85-49D8-B42F-C04041D4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CB3AF-3ACD-402E-8275-6DD3523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ED0-C4F7-4004-9FC8-89903B92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5E05-3A64-407F-A2AE-5641B98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5B5AA-19CC-4817-9644-C4F2973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10ABF2-626E-403B-AE0E-608042F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70A0AD-3E69-4968-A524-CC0AB073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E8607-69C0-405F-A17F-DFD3F35A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14D7E-F4D9-4F46-B334-FEC7D46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E356F-28FC-438F-A2A5-B91ED4C1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BC320-7EF6-4D5C-A571-3AE3C5E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A4CA3-1A72-4D07-90CF-1D640F5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101B1-4CE6-44EA-93EA-F457F19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9FE2F-AC74-4F0B-ADCE-062EE48B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064-3C67-4A8E-9381-7B90B99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EE3EA-5BF7-4D0F-B68B-DFCD514C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5AAE1-8DE6-46AC-8DB5-05EA7E4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C549EE-7655-44C6-A7DB-94B20C0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6F39C-231B-4468-AF80-F601A9B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764AE-2D7B-4F2C-BF2D-11391F5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B9800-05E7-440A-B6DC-A604F298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FDBE8-0D31-4B19-86E6-6DDA66FE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124C4-1EFD-4B31-A6D1-4CE9F2DD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9F80A-9DAC-4B33-9736-091E680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A6022-B8E0-49FE-8C33-A8696FF5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6397-0E07-47DE-BD39-3E3AC12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F4740-93BB-4F37-AA92-C86F01B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ED6C76-A384-44D2-B478-98FD1FE1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CE47AF-365F-4DBD-9E60-B78D2413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99F41-E504-48C2-910E-1DCFD72D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F8D562-EF00-4112-92A3-B4B2B81F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AB16D-43C0-4034-B54D-344BDDBD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07805-3B5B-40F9-B9D2-5D7C2B4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7111A-EE02-4A3A-B1FD-3056245C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8E05F-613E-4287-BE22-39C3838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666B5-05A5-47C5-A5D2-4B03D555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66AA-4781-4A2D-AAC4-56D65E81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D0981-A3C8-4E25-9DBF-5D18F0C5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F825D-E711-416A-B15C-EA9A1D7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62665-ED20-46C1-9D40-1742496A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6BD99-8AAE-44E3-944B-BEC8BD6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BC9B9-89F8-401F-AB65-3B0FDB88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FCDEF7-6C23-4DC6-8B55-CC671DF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C4B63-78F6-42D1-8453-E24A7714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EA974-A925-4A4E-876A-A9A617E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006BA-F3C8-4362-9170-8E75A2F4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5EF10-24D2-49D7-9554-6E2614AC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A71-C9FD-425C-9354-020307B6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146CE-4BB0-47BB-8D57-A67947DB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31227-4CE5-4D2A-86DD-9A317D9F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73A61-8860-4FB6-B738-22833A43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51AA3-AD26-4348-AF02-2C12E61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A2F20-DCB3-45D9-A4C4-B80D54E6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E76C1-CCBE-454D-A500-22126079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02E740-D52E-4B84-9B94-DCBC90A0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6169C1-77A3-402D-B8EE-B2204D42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8B25C-8089-4540-930A-F24F765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49423-6761-484C-A6C0-87402C14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68EE-B940-4422-9A84-714AF13D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54C0DC-74D6-4E74-95E7-0E7B8976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18EB5-EF6A-4DEE-B802-9B8C5B6E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21CFA5-F4F8-4D79-BFEA-B8612543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A65D-0E56-4116-9AD3-1F7EB3F4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F131-DBD6-41BB-84B9-3BE4CDE8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9058-1983-44E4-A827-6F34D211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1D2E-18DA-4515-9259-28EFD2A9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124-5A3F-458F-9925-81BAC0E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7303-7181-4A6E-99F7-EBC91CA3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FEDB9-3FD4-4E87-9098-300E08A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2ED9-FD3E-460E-8758-68E7FB33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C7F0-6E5B-4867-947E-EB440D7E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A839-4C2E-475A-ACB6-15D0451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6D90-A934-443C-A3E5-79BD0ED7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9801-31D6-4C2A-BA0F-EB6E6546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33BA-8F5B-4803-8300-7FD8C5E3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A82E-4B86-491B-860A-6C1A8A39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E667-8223-40F4-874D-1D0FD3F0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B3B-2AA8-4C4C-92EA-EA181493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EB783-9E55-47B3-81AB-5CCB11F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6E7A-5C7D-4549-B2DC-FE364A0C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1EDC-5D21-4048-AEA4-AB704AF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917B-4F6C-4D64-98CD-55DC64B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9B0C7-F5D5-4843-A626-CB05AB4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3D07-F356-4207-92CA-274876EB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ACBF-704E-456D-A5FA-C1409068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90BD-3266-486B-993D-0786CA56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9A75-1C92-4352-B041-0FB41BE5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0F1F-B80C-4FC9-B57E-C8DBD6CC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ECF-FFCE-483A-91B5-C8D9A8E9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C6E4-1645-4B15-9923-EC13ACA8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B3C7-FBE4-44B5-9A9B-79A65AF2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D49EA-3D3B-489D-87B1-114D01D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F43F-BA64-4CCD-9A17-6533C2D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6856-0BFA-4035-9883-8BCFB2D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644D-D3D3-4299-9FD5-9CA01092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31EE-B408-4898-BCBC-1F98A4BC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DDC1-6CFB-477E-8DBA-455791F7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CC2E-A818-46E7-98EB-FEB51767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1FC4-6E97-433D-AB04-8261A029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3A0-E7A3-4CE8-8C8B-AE071C7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27E9-7F94-4622-AB43-FD297B01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0790A-CBBB-4400-9541-1AEA687F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741F-6D9F-4330-A642-F0E0CF45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17C35-832C-40D9-A68D-33CA1F7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A7D49-8648-4C24-854B-A011911D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F10D-572A-4C2B-85B3-87D0AD88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BD01-F41C-44E8-B3A9-67364CB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592BE-B060-4DF4-B2CA-8F1BDEF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0401-C967-4019-8CC3-00DFFEEB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4665-0E1F-444B-B61B-8DF1B017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7F9-478C-4744-96C3-28EEF14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A6A4-E00A-4D16-B85B-658C9391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A3DEA-AFED-4D1E-A54D-388FD521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F8B7-CCD2-4207-9968-BB48575A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9F04-FBB8-4775-B5D0-B8B2D022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69F5-BC57-47EA-921D-7AF5815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3FEF-CD01-464E-922B-8B7E059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B4A92-CE43-41A0-A7C5-AA506A3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D229-2871-4CBC-956C-A17CA58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AF2B6-CCD8-4E5E-B86A-EF13EC3C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84DE-180D-48D9-95D2-5C16A5FA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B57-7714-4269-897B-575BEB0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60595-E3D0-40AD-9CDB-FF66B43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8A6B-B613-44A1-A6E5-B282F08E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A421-003F-4A05-9304-D1A80419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CD0B-6361-4FE5-A381-D079F887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C0A49-0E4E-4C49-9F45-E7EA31B4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BF5FB-5B42-4D1C-855B-D8B37CCD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C6E09-0DBD-4B7C-81D6-CCB898DE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645ED-53FE-4A9E-BA5C-F89D17A0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C20D3-DAA1-49CD-A072-E82F71A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022E-71BD-4FB2-8F4C-3054D087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F48-AF5B-4338-AD88-D2F3FAD8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45C12-F640-4F1C-9B3E-ABB5EDC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1ED81-4623-42E6-8910-25100EB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B988-0346-454E-B77F-9859298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CCAC7-A418-4595-9B17-F33E152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5AD99-A14F-4997-A0B8-624936E5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86B5B-2E63-4D83-9124-0F19DC45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2F76-E3D2-4BA7-8704-C187D6AF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3CBC9-934E-4DB4-8501-216B661C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B5CD0-2CBE-43CB-B59F-6460C55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95182-DB51-421B-94CC-C2D81674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6F0D-1955-4C58-9D8C-8F196634ED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2CC1-55B7-4CBA-A891-73B8DA730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03A-8C76-4080-9F55-7B9EA87978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FAD-75F2-42E6-B7D4-CECDF13A5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2EB-0182-4DB0-8D5B-07E220976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C73C-6392-44B1-AF38-F17CB463E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DE6-9F5E-4EE3-9402-0B6DAB12C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1AF-8F41-40C9-9E0E-8F7823DC6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214-351F-4A24-8F66-1FD8E94D1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173-0AEF-4192-96DD-002BA0994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F81-DDC9-4B68-BF9B-37E9B7659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ADE4-1DA6-4FDA-8D38-2F877F7CD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65A4-F7D3-4547-B167-88D6311C8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E1D-4F4D-4B59-878B-300F3E70A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F40-1C31-46CD-A139-F645B1E433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8D6-9FEC-40C4-8EE8-1F13E621C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5F57-3486-4E8E-A9BA-C032D5EDE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3D5-F2BE-40B6-BCD0-2EBC5E97CF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5CD5-6138-4703-A526-74D21751D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0BA8-C439-4EF5-A48D-CAE0F4DDE5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635-75EE-4A7D-B727-C2BC28053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4897-6E66-435B-81AC-58113F52A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0B2E-CE45-4528-A053-ABF9FEDF4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D18D-455C-4AEC-B102-75664E0E0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0FF1-0C79-4A15-A6A0-3972348D6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72F0-23FB-422F-9DC5-D37DA1F298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0E7-6326-4255-9EDC-6E9338460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2EE2-7913-4998-A331-530F55C980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0DD8-974D-469E-B2FE-293798C9E6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E95-6CAF-430F-B8FB-A7DEA42B6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84FF-64B0-47EE-89E5-BDD84DA74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AC6E-75D2-4A5B-87BB-55F4AD69DC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C5BC-538C-48B4-B317-FF680E47D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EBC-8C90-47F3-9C87-9B9E3D6D9E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8CE-FF19-4E35-B01C-82FC3AB6A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A4B6-1EE5-4C3D-8323-E0B040F28F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33F-8CF0-471A-AA75-D6667C19EB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0C3-1CA3-4282-8E02-1369F8FE7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E3C-8549-4BE4-BEBF-E848634F9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20B-0593-4AC3-B4B5-FE4848A1B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09640" y="2948040"/>
            <a:ext cx="5724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1109520" y="1623960"/>
            <a:ext cx="6924960" cy="3610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662616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662616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1332000" y="3213000"/>
            <a:ext cx="6626160" cy="863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1403280" y="4192560"/>
            <a:ext cx="6626160" cy="4939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1332000" y="4724280"/>
            <a:ext cx="66261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604800" y="1847880"/>
            <a:ext cx="7934400" cy="3162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09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7585" descr=""/>
          <p:cNvPicPr/>
          <p:nvPr/>
        </p:nvPicPr>
        <p:blipFill>
          <a:blip r:embed="rId1"/>
          <a:stretch/>
        </p:blipFill>
        <p:spPr>
          <a:xfrm>
            <a:off x="485640" y="1052640"/>
            <a:ext cx="8172720" cy="220968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67586" descr=""/>
          <p:cNvPicPr/>
          <p:nvPr/>
        </p:nvPicPr>
        <p:blipFill>
          <a:blip r:embed="rId2"/>
          <a:stretch/>
        </p:blipFill>
        <p:spPr>
          <a:xfrm>
            <a:off x="1143000" y="3456000"/>
            <a:ext cx="6858000" cy="2133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4557600" y="141300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8129520" y="1268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4183200" y="2133720"/>
            <a:ext cx="576000" cy="792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8101080" y="214776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2700360" y="3716280"/>
            <a:ext cx="576360" cy="7923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7380360" y="376092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2916360" y="459576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7380360" y="4653000"/>
            <a:ext cx="934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66560" y="714240"/>
            <a:ext cx="8210880" cy="5429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659640" y="292428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700200" y="1900080"/>
            <a:ext cx="7743600" cy="305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6443640" y="198900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538200" y="1252440"/>
            <a:ext cx="8067600" cy="43531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576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7352" descr=""/>
          <p:cNvPicPr/>
          <p:nvPr/>
        </p:nvPicPr>
        <p:blipFill>
          <a:blip r:embed="rId1"/>
          <a:stretch/>
        </p:blipFill>
        <p:spPr>
          <a:xfrm>
            <a:off x="257040" y="1457280"/>
            <a:ext cx="8629920" cy="3943440"/>
          </a:xfrm>
          <a:prstGeom prst="rect">
            <a:avLst/>
          </a:prstGeom>
          <a:ln w="0">
            <a:noFill/>
          </a:ln>
        </p:spPr>
      </p:pic>
      <p:grpSp>
        <p:nvGrpSpPr>
          <p:cNvPr id="929" name="组合 57358"/>
          <p:cNvGrpSpPr/>
          <p:nvPr/>
        </p:nvGrpSpPr>
        <p:grpSpPr>
          <a:xfrm>
            <a:off x="257040" y="2003400"/>
            <a:ext cx="1800360" cy="3586320"/>
            <a:chOff x="257040" y="2003400"/>
            <a:chExt cx="1800360" cy="3586320"/>
          </a:xfrm>
        </p:grpSpPr>
        <p:pic>
          <p:nvPicPr>
            <p:cNvPr id="930" name="图片 57353" descr=""/>
            <p:cNvPicPr/>
            <p:nvPr/>
          </p:nvPicPr>
          <p:blipFill>
            <a:blip r:embed="rId2"/>
            <a:stretch/>
          </p:blipFill>
          <p:spPr>
            <a:xfrm>
              <a:off x="257040" y="2362320"/>
              <a:ext cx="1800360" cy="25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1" descr=""/>
            <p:cNvPicPr/>
            <p:nvPr/>
          </p:nvPicPr>
          <p:blipFill>
            <a:blip r:embed="rId3"/>
            <a:stretch/>
          </p:blipFill>
          <p:spPr>
            <a:xfrm>
              <a:off x="971640" y="2003400"/>
              <a:ext cx="57600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1" descr=""/>
            <p:cNvPicPr/>
            <p:nvPr/>
          </p:nvPicPr>
          <p:blipFill>
            <a:blip r:embed="rId4"/>
            <a:stretch/>
          </p:blipFill>
          <p:spPr>
            <a:xfrm>
              <a:off x="971640" y="4724280"/>
              <a:ext cx="576000" cy="8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组合 57361"/>
          <p:cNvGrpSpPr/>
          <p:nvPr/>
        </p:nvGrpSpPr>
        <p:grpSpPr>
          <a:xfrm>
            <a:off x="2354400" y="2549520"/>
            <a:ext cx="3441600" cy="2552760"/>
            <a:chOff x="2354400" y="2549520"/>
            <a:chExt cx="3441600" cy="2552760"/>
          </a:xfrm>
        </p:grpSpPr>
        <p:pic>
          <p:nvPicPr>
            <p:cNvPr id="934" name="图片 57354" descr=""/>
            <p:cNvPicPr/>
            <p:nvPr/>
          </p:nvPicPr>
          <p:blipFill>
            <a:blip r:embed="rId5"/>
            <a:stretch/>
          </p:blipFill>
          <p:spPr>
            <a:xfrm>
              <a:off x="2506680" y="2549520"/>
              <a:ext cx="2771640" cy="25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1" descr=""/>
            <p:cNvPicPr/>
            <p:nvPr/>
          </p:nvPicPr>
          <p:blipFill>
            <a:blip r:embed="rId6"/>
            <a:stretch/>
          </p:blipFill>
          <p:spPr>
            <a:xfrm>
              <a:off x="2354400" y="3573360"/>
              <a:ext cx="287280" cy="49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Picture 1" descr=""/>
            <p:cNvPicPr/>
            <p:nvPr/>
          </p:nvPicPr>
          <p:blipFill>
            <a:blip r:embed="rId7"/>
            <a:stretch/>
          </p:blipFill>
          <p:spPr>
            <a:xfrm>
              <a:off x="5234040" y="3573360"/>
              <a:ext cx="561960" cy="49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7" name="组合 57366"/>
          <p:cNvGrpSpPr/>
          <p:nvPr/>
        </p:nvGrpSpPr>
        <p:grpSpPr>
          <a:xfrm>
            <a:off x="5867280" y="2841480"/>
            <a:ext cx="2881440" cy="2257560"/>
            <a:chOff x="5867280" y="2841480"/>
            <a:chExt cx="2881440" cy="2257560"/>
          </a:xfrm>
        </p:grpSpPr>
        <p:pic>
          <p:nvPicPr>
            <p:cNvPr id="938" name="图片 57355" descr=""/>
            <p:cNvPicPr/>
            <p:nvPr/>
          </p:nvPicPr>
          <p:blipFill>
            <a:blip r:embed="rId8"/>
            <a:stretch/>
          </p:blipFill>
          <p:spPr>
            <a:xfrm>
              <a:off x="6242040" y="2841480"/>
              <a:ext cx="2095560" cy="225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Picture 1" descr=""/>
            <p:cNvPicPr/>
            <p:nvPr/>
          </p:nvPicPr>
          <p:blipFill>
            <a:blip r:embed="rId9"/>
            <a:stretch/>
          </p:blipFill>
          <p:spPr>
            <a:xfrm>
              <a:off x="5867280" y="292428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0" name="Picture 1" descr=""/>
            <p:cNvPicPr/>
            <p:nvPr/>
          </p:nvPicPr>
          <p:blipFill>
            <a:blip r:embed="rId10"/>
            <a:stretch/>
          </p:blipFill>
          <p:spPr>
            <a:xfrm>
              <a:off x="5867280" y="436572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1" name="Picture 1" descr=""/>
            <p:cNvPicPr/>
            <p:nvPr/>
          </p:nvPicPr>
          <p:blipFill>
            <a:blip r:embed="rId11"/>
            <a:stretch/>
          </p:blipFill>
          <p:spPr>
            <a:xfrm>
              <a:off x="8172360" y="2997360"/>
              <a:ext cx="57636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2" name="Picture 1" descr=""/>
            <p:cNvPicPr/>
            <p:nvPr/>
          </p:nvPicPr>
          <p:blipFill>
            <a:blip r:embed="rId12"/>
            <a:stretch/>
          </p:blipFill>
          <p:spPr>
            <a:xfrm>
              <a:off x="8172360" y="4235400"/>
              <a:ext cx="576360" cy="49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523800" y="1262160"/>
            <a:ext cx="8096400" cy="433368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56325" descr=""/>
          <p:cNvPicPr/>
          <p:nvPr/>
        </p:nvPicPr>
        <p:blipFill>
          <a:blip r:embed="rId2"/>
          <a:stretch/>
        </p:blipFill>
        <p:spPr>
          <a:xfrm>
            <a:off x="1278000" y="2306520"/>
            <a:ext cx="71247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262080" y="1338120"/>
            <a:ext cx="8619840" cy="418176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1" descr=""/>
          <p:cNvPicPr/>
          <p:nvPr/>
        </p:nvPicPr>
        <p:blipFill>
          <a:blip r:embed="rId2"/>
          <a:stretch/>
        </p:blipFill>
        <p:spPr>
          <a:xfrm>
            <a:off x="985680" y="2106720"/>
            <a:ext cx="7763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4276" descr=""/>
          <p:cNvPicPr/>
          <p:nvPr/>
        </p:nvPicPr>
        <p:blipFill>
          <a:blip r:embed="rId1"/>
          <a:stretch/>
        </p:blipFill>
        <p:spPr>
          <a:xfrm>
            <a:off x="547560" y="1552680"/>
            <a:ext cx="8048880" cy="3752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2627280" y="479736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372360" y="4753080"/>
            <a:ext cx="1224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276120" y="773280"/>
            <a:ext cx="859176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27:1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